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B6DE-1B74-4782-9017-837932451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3CED-EFDF-49EF-9E16-1879B7C6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B832-A487-417C-BA6D-7F2A437FB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1E14-0039-4718-8DEE-1CC6D545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6330-BA63-48C5-BDE8-306E5BFD3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A46E-3ACE-4FD3-8075-3322EE53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FA66-B439-4E40-9AB3-625A8697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1209-5C40-4E48-9582-D99E3B34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D3C1-E205-4637-A171-D84F089E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2DE1-3E4B-476E-95FF-D59BCF68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B7C8-7E01-4E44-A166-817ED220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CF4E-A4E3-4EA1-8E8E-0CC6A809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5841-2BDE-479B-99F2-8FA51216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0C59-1CBA-419C-A00F-8FA49C2D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732B-A9BF-4367-8655-C0B4451E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0BAE-2BBE-4950-922B-8310EA63F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8BA0-5F24-43E6-9562-AC5B63927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7FEA1-FD05-4D35-B753-EE134233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30D78-E2A5-45CB-A9B8-CB66097D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5B133-6D43-48D0-8B57-60E373F4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C6792-53DC-421E-A7CC-36E6D08D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79570-C0FD-4A9D-B5C7-28153D49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5F62-3C4C-4A3A-81A1-218C68D8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4915D-BAFD-4FC9-B685-76D7BC5F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0715C-0C38-4B31-BB1B-17CFF007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6EA19-2BCE-460A-88FF-CCF9DC80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AF9D4-5957-4454-8A8D-F61A82CF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ECFA0-18AD-4309-9D20-8C97DF72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6C3BC-8728-45AF-89CA-DE92C03C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173D0-BDAE-47D9-A540-32326E21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EF876-47E9-43D0-B4D2-CCD57C46F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F68A8-2FF0-4F7E-8932-6E2F57CB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15DAF-7372-42C4-8D74-EA9160FD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8D41-FB67-4A19-9F47-A87E7423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790F4-7E62-4199-8CE7-BA0ED2F4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9B460-54DB-43F3-868B-771993A0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72E92-9009-4AF7-A6BA-11FA3A8C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75EEA-C124-4005-99DB-D700769C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059A9-041B-4DF2-98DD-6888D1E0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07FA0-CD67-45E4-9C71-6FA93F4D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E552D-C44C-4F63-9E89-398C642F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D944C-2ACC-486D-A3A3-2946A2071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45C9F-8553-418D-8891-1E6A94CB3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34D95-C9CC-4A1F-BFEC-B5E21ED5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8B30-B81C-4D22-A7BE-4BF756A2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F0712-6464-45BA-A346-CF883721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504E6-A20B-42B2-B450-C24671E0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F7AFB-48DF-495F-B3FA-26D784BE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386BF-8810-4112-BDF9-4D2CDF9A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095F6-DD50-497C-B150-E0CD4933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693EF-C9F8-4916-AC84-8993E277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34293-5767-483E-8127-6AF8A0DF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869C5-0936-4D10-80B3-724767CD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52907-01CA-4A23-8A0B-4EE32152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98650-53E1-4CD7-81F1-40C14F86D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3BA9-2C40-421F-8BDC-AD73CBDF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F8A1B-A4C1-498D-AA84-453A7B31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7FE9-790D-4F8A-AFA1-E27B4815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90CF-1476-4AD1-B8C7-FCA89051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4038-6FEB-46E9-BE21-1E8E4ACF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7153-475D-4BC1-9BFC-8063174CF0BA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FB15-A4EF-47BB-89AE-46756E63E6C6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A4D0-0EBE-4763-B4B7-09F8C485BBE8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7F36-87FC-414F-B339-D5F9A5F2FE8A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D0E3-7F6A-456C-ACDE-2B19942107DE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y Cassandra Bloun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699320" cy="1176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846000" y="1609560"/>
            <a:ext cx="64612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"/>
          <p:cNvPicPr/>
          <p:nvPr/>
        </p:nvPicPr>
        <p:blipFill>
          <a:blip r:embed="rId2"/>
          <a:stretch/>
        </p:blipFill>
        <p:spPr>
          <a:xfrm>
            <a:off x="846000" y="1609560"/>
            <a:ext cx="64612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91600" cy="1176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"/>
          <p:cNvPicPr/>
          <p:nvPr/>
        </p:nvPicPr>
        <p:blipFill>
          <a:blip r:embed="rId2"/>
          <a:stretch/>
        </p:blipFill>
        <p:spPr>
          <a:xfrm>
            <a:off x="1371600" y="213372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t was ok but limit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t was pretty accurate when I put in my nam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t was also scary to know that all I had to do is to type my name and personal info potted up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4T13:07:40Z</dcterms:created>
  <dc:creator>training</dc:creator>
  <dc:description/>
  <dc:language>en-US</dc:language>
  <cp:lastModifiedBy>training</cp:lastModifiedBy>
  <dcterms:modified xsi:type="dcterms:W3CDTF">2012-04-14T17:17:42Z</dcterms:modified>
  <cp:revision>3</cp:revision>
  <dc:subject/>
  <dc:title>Surfwax.com</dc:title>
</cp:coreProperties>
</file>